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F7643-403A-4F3D-859A-A4147BC0C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B8F89-C0CC-4DBA-A3E0-9EC8DBAEB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5F2B3-7372-4FF9-9FD5-E3C4FDF85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FC646-0C29-4602-B0D6-A73175729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2080B-C15B-467F-AA86-CD0060E6B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60FAF-38F4-4763-9E80-AE424A696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8F775-4F44-4356-AF14-7C7C66D01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03E80-5706-4220-B136-FDDCD5F1C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BB5A4-BC79-4248-B1CC-A2D04FAAE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72926-6B45-46E4-A3AF-9F9A74BE6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A3DA5-B035-40E9-995F-88BAE9D2C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E982A-DCD0-4F05-9A03-DFC10E67A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A6D6F-84F3-4282-BC12-3CB1F5E14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ED62D-4ECD-4A9E-AA99-7DFAB3CB8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63254-5A01-439E-8B30-BB392589F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B0122-D1DA-4453-B494-54F7865EC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4A62B-FAE3-48F1-B0D5-463609E14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FD83D-E52C-49EC-B0D1-4C4996DC4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D2CCE-D64D-4347-904C-06DEAFA13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D9197-A2E4-4651-A101-D6C536FBD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C45D9-8801-41E1-BC9A-083D20208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8E6E2-7189-4C94-AC9A-D5AF6928B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C8456-EACF-4941-ADF4-34579B624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94BF8-DC72-4BAD-A2EF-3ECD1AA1C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6"/>
          <p:cNvGrpSpPr/>
          <p:nvPr/>
        </p:nvGrpSpPr>
        <p:grpSpPr>
          <a:xfrm>
            <a:off x="0" y="0"/>
            <a:ext cx="8478720" cy="6173640"/>
            <a:chOff x="0" y="0"/>
            <a:chExt cx="8478720" cy="6173640"/>
          </a:xfrm>
        </p:grpSpPr>
        <p:sp>
          <p:nvSpPr>
            <p:cNvPr id="1" name="Freeform 2"/>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2" name="Freeform 3"/>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3" name="Freeform 4"/>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4" name="Freeform 5"/>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E82A-3B48-486F-807D-61FE58B97B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6"/>
          <p:cNvGrpSpPr/>
          <p:nvPr/>
        </p:nvGrpSpPr>
        <p:grpSpPr>
          <a:xfrm>
            <a:off x="0" y="0"/>
            <a:ext cx="8478720" cy="6173640"/>
            <a:chOff x="0" y="0"/>
            <a:chExt cx="8478720" cy="6173640"/>
          </a:xfrm>
        </p:grpSpPr>
        <p:sp>
          <p:nvSpPr>
            <p:cNvPr id="47" name="Freeform 2"/>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48" name="Freeform 3"/>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49" name="Freeform 4"/>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50" name="Freeform 5"/>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3FF4-913B-43F5-9C95-64D82117D9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93"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iv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 we will learn the necessary components of The Rule of Thir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95"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he Rule of Thirds </a:t>
            </a:r>
            <a:r>
              <a:rPr b="0" lang="en-US" sz="3200" spc="-1" strike="noStrike">
                <a:solidFill>
                  <a:srgbClr val="ffffff"/>
                </a:solidFill>
                <a:latin typeface="Times New Roman"/>
              </a:rPr>
              <a:t>states that there are certain “hotspots”, areas of intensity that exist within any given image, and if one were to align the subject within the range of influence of these hotspots, it will make for a more energetic and interesting composition. </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97"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le of Thirds:</a:t>
            </a:r>
            <a:endParaRPr b="0" lang="en-US" sz="3200" spc="-1" strike="noStrike">
              <a:solidFill>
                <a:srgbClr val="ffffff"/>
              </a:solidFill>
              <a:latin typeface="Times New Roman"/>
            </a:endParaRPr>
          </a:p>
        </p:txBody>
      </p:sp>
      <p:pic>
        <p:nvPicPr>
          <p:cNvPr id="98" name="Picture 4" descr="http://halcyonrealms.com/blogpics/701.jpg"/>
          <p:cNvPicPr/>
          <p:nvPr/>
        </p:nvPicPr>
        <p:blipFill>
          <a:blip r:embed="rId1"/>
          <a:stretch/>
        </p:blipFill>
        <p:spPr>
          <a:xfrm>
            <a:off x="2057400" y="2514600"/>
            <a:ext cx="64008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100"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le of Thirds:</a:t>
            </a:r>
            <a:endParaRPr b="0" lang="en-US" sz="3200" spc="-1" strike="noStrike">
              <a:solidFill>
                <a:srgbClr val="ffffff"/>
              </a:solidFill>
              <a:latin typeface="Times New Roman"/>
            </a:endParaRPr>
          </a:p>
        </p:txBody>
      </p:sp>
      <p:pic>
        <p:nvPicPr>
          <p:cNvPr id="101" name="Picture 8" descr="http://halcyonrealms.com/blogpics/705.jpg"/>
          <p:cNvPicPr/>
          <p:nvPr/>
        </p:nvPicPr>
        <p:blipFill>
          <a:blip r:embed="rId1"/>
          <a:stretch/>
        </p:blipFill>
        <p:spPr>
          <a:xfrm>
            <a:off x="1523880" y="2743200"/>
            <a:ext cx="655344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103"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le of Thirds:</a:t>
            </a:r>
            <a:endParaRPr b="0" lang="en-US" sz="3200" spc="-1" strike="noStrike">
              <a:solidFill>
                <a:srgbClr val="ffffff"/>
              </a:solidFill>
              <a:latin typeface="Times New Roman"/>
            </a:endParaRPr>
          </a:p>
        </p:txBody>
      </p:sp>
      <p:pic>
        <p:nvPicPr>
          <p:cNvPr id="104" name="Picture 6" descr="http://halcyonrealms.com/blogpics/703.jpg"/>
          <p:cNvPicPr/>
          <p:nvPr/>
        </p:nvPicPr>
        <p:blipFill>
          <a:blip r:embed="rId1"/>
          <a:stretch/>
        </p:blipFill>
        <p:spPr>
          <a:xfrm>
            <a:off x="1371600" y="2514600"/>
            <a:ext cx="67057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106" name=""/>
          <p:cNvSpPr txBox="1"/>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le of Thirds:</a:t>
            </a:r>
            <a:endParaRPr b="0" lang="en-US" sz="3200" spc="-1" strike="noStrike">
              <a:solidFill>
                <a:srgbClr val="ffffff"/>
              </a:solidFill>
              <a:latin typeface="Times New Roman"/>
            </a:endParaRPr>
          </a:p>
        </p:txBody>
      </p:sp>
      <p:pic>
        <p:nvPicPr>
          <p:cNvPr id="107" name="Picture 10" descr="http://halcyonrealms.com/blogpics/707.jpg"/>
          <p:cNvPicPr/>
          <p:nvPr/>
        </p:nvPicPr>
        <p:blipFill>
          <a:blip r:embed="rId1"/>
          <a:stretch/>
        </p:blipFill>
        <p:spPr>
          <a:xfrm>
            <a:off x="1600200" y="2743200"/>
            <a:ext cx="624852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ory, Camera, Action!</a:t>
            </a:r>
            <a:endParaRPr b="0" lang="en-US" sz="4400" spc="-1" strike="noStrike">
              <a:solidFill>
                <a:srgbClr val="ffff00"/>
              </a:solidFill>
              <a:latin typeface="Times New Roman"/>
            </a:endParaRPr>
          </a:p>
        </p:txBody>
      </p:sp>
      <p:sp>
        <p:nvSpPr>
          <p:cNvPr id="109" name=""/>
          <p:cNvSpPr txBox="1"/>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When framing a subject for film or TV, how should their body be aligned?</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When framing a subject, how should their eyes be aligned?</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What are “hotspots”?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oujou</dc:creator>
  <dc:description/>
  <dc:language>en-US</dc:language>
  <cp:lastModifiedBy>Jou Jou</cp:lastModifiedBy>
  <dcterms:modified xsi:type="dcterms:W3CDTF">2011-11-21T01:06:53Z</dcterms:modified>
  <cp:revision>84</cp:revision>
  <dc:subject/>
  <dc:title>Legacy Life Skills</dc:title>
</cp:coreProperties>
</file>